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EB2-8F0A-47DB-BE21-AC793B38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34C-4641-40E1-A8C2-95D8165E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E85-8D6A-47BD-A0EA-CB46F90E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883-1A3A-4E5D-8CDC-603341C3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66A-7D33-4E7D-AB9E-D3780998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7B7-C9EC-4076-9AEA-84A461D0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7D9-B5CB-4593-BC09-6011468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81D-60E3-4A4F-AAAD-DD09A95D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A43-3CBA-4773-9D15-DD8F6277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6BF-BBC3-4A29-8BE5-99A52C8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ED7-ED9D-4CC4-B23F-5B9C4EA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E77-66F6-499F-AE22-F66A3E4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448-494B-43A4-B3A1-34E27A1F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41920" cy="142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3189240" cy="698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7619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224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8534520" cy="96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14800" y="44956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4495680"/>
            <a:ext cx="9903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31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8534520" cy="156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00400" y="38862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88620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105520"/>
            <a:ext cx="3124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25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8763120" cy="10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67080" y="586728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5867280"/>
            <a:ext cx="10666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462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131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4864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4864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54864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089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5:10:06Z</dcterms:created>
  <dc:creator>Graham</dc:creator>
  <dc:description/>
  <dc:language>en-US</dc:language>
  <cp:lastModifiedBy>Graham</cp:lastModifiedBy>
  <dcterms:modified xsi:type="dcterms:W3CDTF">2012-08-08T12:19:15Z</dcterms:modified>
  <cp:revision>2</cp:revision>
  <dc:subject/>
  <dc:title>Slide 1</dc:title>
</cp:coreProperties>
</file>